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D00D-749A-46CA-A9D2-9EE8DCDE7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re not claiming credit for the whole module, we're just its N European representative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, person, and other info in nd_experimentprop and nd_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if required: nd_geo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xt-g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ur motivation at VectorBase - if we do it properly,  it should be possible to do association studies on accumulated community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 = tom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R = apples, peach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just stocks in the usual sense of the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defined b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the NOT NULL constraint on organism so that mixed or unknown species collections (e.g. soil samples) can be track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quickly now because the examples in a minute will make things clear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've currently got a nd_ prefix for all tables in the model but this is still open to de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ment.type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urrently envisage 4 types but of cou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eld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otype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E89-FBA8-49ED-B564-59B39F7E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03D-4EFC-444C-980C-9F9BE972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127-9983-40F1-B44A-1384C5D2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EC1-ED54-49DA-8D37-9E96FFFC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74AB-F804-4BEC-B170-4850A9ED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F11-2AFB-4D4D-BC75-46BA5916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DA0-F529-4606-BADC-0F26FA90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99D-9341-49FF-9499-D862324E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BDC1-3C61-490C-8688-97A9CA1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665-B0C6-462A-BBD0-962422FA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46F-7507-4408-9DFD-89C6E8E2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6BE1-C893-4128-88D9-2D7F54C3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5EE5-9C1E-4C0F-8B58-D542C3944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7160" y="1727280"/>
            <a:ext cx="8390160" cy="187632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GMOD Chado Natural Diversity Modu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2560" y="4165200"/>
            <a:ext cx="5243400" cy="227340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MacCal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h Redm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ial College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vectorba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157720" y="4179960"/>
            <a:ext cx="2940120" cy="2071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cross 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246560" y="3657600"/>
            <a:ext cx="2295360" cy="657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7351560" y="6300720"/>
            <a:ext cx="1706760" cy="6588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2825640" y="4417920"/>
            <a:ext cx="2268720" cy="19573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6"/>
          <a:stretch/>
        </p:blipFill>
        <p:spPr>
          <a:xfrm>
            <a:off x="1541520" y="4954680"/>
            <a:ext cx="2516040" cy="8492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1030320" y="4417920"/>
            <a:ext cx="3808440" cy="2071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8"/>
          <a:stretch/>
        </p:blipFill>
        <p:spPr>
          <a:xfrm>
            <a:off x="1279440" y="4829040"/>
            <a:ext cx="2516400" cy="85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9"/>
          <a:stretch/>
        </p:blipFill>
        <p:spPr>
          <a:xfrm>
            <a:off x="2452680" y="6313320"/>
            <a:ext cx="1706400" cy="657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0"/>
          <a:stretch/>
        </p:blipFill>
        <p:spPr>
          <a:xfrm>
            <a:off x="5792760" y="5140440"/>
            <a:ext cx="2368440" cy="6588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11"/>
          <a:stretch/>
        </p:blipFill>
        <p:spPr>
          <a:xfrm>
            <a:off x="507960" y="6313320"/>
            <a:ext cx="170676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3352680" y="4368960"/>
            <a:ext cx="1131840" cy="258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field coll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4470480" y="3149640"/>
            <a:ext cx="417600" cy="1052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4"/>
          <a:stretch/>
        </p:blipFill>
        <p:spPr>
          <a:xfrm>
            <a:off x="4978440" y="4675320"/>
            <a:ext cx="2627280" cy="19335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"/>
          <a:stretch/>
        </p:blipFill>
        <p:spPr>
          <a:xfrm>
            <a:off x="4165560" y="3962520"/>
            <a:ext cx="2625840" cy="954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6"/>
          <a:stretch/>
        </p:blipFill>
        <p:spPr>
          <a:xfrm>
            <a:off x="7297560" y="6626160"/>
            <a:ext cx="2627640" cy="687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7"/>
          <a:stretch/>
        </p:blipFill>
        <p:spPr>
          <a:xfrm>
            <a:off x="5757840" y="5283360"/>
            <a:ext cx="2625840" cy="8874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8"/>
          <a:stretch/>
        </p:blipFill>
        <p:spPr>
          <a:xfrm>
            <a:off x="2781360" y="2124000"/>
            <a:ext cx="2406600" cy="10224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9"/>
          <a:stretch/>
        </p:blipFill>
        <p:spPr>
          <a:xfrm>
            <a:off x="914400" y="3962520"/>
            <a:ext cx="2395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486080" y="2387520"/>
            <a:ext cx="333360" cy="1349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Use case: phenotype ass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3319560" y="3559320"/>
            <a:ext cx="1755720" cy="6379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5126040" y="1725480"/>
            <a:ext cx="434880" cy="27734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"/>
          <a:stretch/>
        </p:blipFill>
        <p:spPr>
          <a:xfrm>
            <a:off x="4216320" y="3746520"/>
            <a:ext cx="2540160" cy="858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6"/>
          <a:stretch/>
        </p:blipFill>
        <p:spPr>
          <a:xfrm>
            <a:off x="5400720" y="4743360"/>
            <a:ext cx="2989080" cy="2063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7345440" y="6602400"/>
            <a:ext cx="2539800" cy="66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8"/>
          <a:stretch/>
        </p:blipFill>
        <p:spPr>
          <a:xfrm>
            <a:off x="5775480" y="5243400"/>
            <a:ext cx="2538360" cy="857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4491000" y="1015920"/>
            <a:ext cx="2613240" cy="663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26880" y="3422520"/>
            <a:ext cx="3576960" cy="6638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203040" y="1514520"/>
            <a:ext cx="2611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V term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hema is very flex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d_experiment.type and nd_experiment_stock.type are ke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ral ways to do the same th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ing group is hoping to agree on core CV terms to aid API develop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 simplified API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914400" y="1625760"/>
            <a:ext cx="7507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phenotypic and genotypic data for both field collected and captive bred organis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ore collection site information for growing "next gen"-based variation da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verage existing/future Chado modules, GMOD tools and know-h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velopmental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3200" y="725400"/>
            <a:ext cx="8813880" cy="5060880"/>
            <a:chOff x="673200" y="725400"/>
            <a:chExt cx="8813880" cy="5060880"/>
          </a:xfrm>
        </p:grpSpPr>
        <p:sp>
          <p:nvSpPr>
            <p:cNvPr id="54" name=""/>
            <p:cNvSpPr/>
            <p:nvPr/>
          </p:nvSpPr>
          <p:spPr>
            <a:xfrm>
              <a:off x="673200" y="725400"/>
              <a:ext cx="151452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87720" y="725400"/>
              <a:ext cx="7299360" cy="21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arly vers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iconiusDB @ NESC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National Evolutionary Synthesis Cent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nescent.or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spired b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PDM (The Genomic Diversity and Phenotype Data Mode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maizegenetics.net/gdpdm/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3200" y="2892600"/>
              <a:ext cx="151452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9-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7720" y="2892600"/>
              <a:ext cx="729936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ncarnation spearheaded by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 @ Washington State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DR (Genome Database for Rosacea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www.rosaceae.org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MOD working group forme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ttp://gmod.org/wiki/Chado_Natural_Diversity_Module_Working_Grou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73200" y="4849920"/>
              <a:ext cx="15145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gust 2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7720" y="4849920"/>
              <a:ext cx="72993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ural Diversity module merged into Chado svn trun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73200" y="7254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320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8772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3200" y="289260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7720" y="7254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487080" y="725400"/>
              <a:ext cx="0" cy="21672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87720" y="289260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320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8772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3200" y="484992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487080" y="2892600"/>
              <a:ext cx="0" cy="19573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7720" y="484992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20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8772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00" y="5786280"/>
              <a:ext cx="1514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487080" y="484992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87720" y="5786280"/>
              <a:ext cx="729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721640" y="1625760"/>
            <a:ext cx="13161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6720" y="3962520"/>
            <a:ext cx="16416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urrent develope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5960" y="507960"/>
            <a:ext cx="9466200" cy="6329520"/>
            <a:chOff x="345960" y="507960"/>
            <a:chExt cx="9466200" cy="6329520"/>
          </a:xfrm>
        </p:grpSpPr>
        <p:sp>
          <p:nvSpPr>
            <p:cNvPr id="115" name=""/>
            <p:cNvSpPr/>
            <p:nvPr/>
          </p:nvSpPr>
          <p:spPr>
            <a:xfrm>
              <a:off x="345960" y="50796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14640" y="50796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ili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5960" y="946080"/>
              <a:ext cx="26686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ve Clements (organize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14640" y="946080"/>
              <a:ext cx="67975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SCent,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5960" y="1446120"/>
              <a:ext cx="2668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ok J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14640" y="1446120"/>
              <a:ext cx="67975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60" y="180036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orrie 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14640" y="180036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shington State University, G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5960" y="21654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phen Fickl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14640" y="21654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5960" y="253044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g Stat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4640" y="253044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G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960" y="289548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cott C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14640" y="289548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ICR / GM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5960" y="326088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vieve DeCle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4640" y="326088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nell / Gram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5960" y="3625920"/>
              <a:ext cx="26686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b MacCall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14640" y="3625920"/>
              <a:ext cx="67975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960" y="3979800"/>
              <a:ext cx="26686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th Redm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14640" y="3979800"/>
              <a:ext cx="6797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perial, Lond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5960" y="4344840"/>
              <a:ext cx="2668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ama M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14640" y="4344840"/>
              <a:ext cx="6797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960" y="4710240"/>
              <a:ext cx="26686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ren Frie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14640" y="4710240"/>
              <a:ext cx="67975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5960" y="5148360"/>
              <a:ext cx="26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uri Bend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14640" y="5148360"/>
              <a:ext cx="679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dicago ecological genomics,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 of Southern Californ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5960" y="5668920"/>
              <a:ext cx="26686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ntelis Topal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14640" y="5668920"/>
              <a:ext cx="67975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960" y="6043680"/>
              <a:ext cx="2668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mmanuel Dialyn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14640" y="6043680"/>
              <a:ext cx="6797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ectorBase, IMBB, Cr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5960" y="6440400"/>
              <a:ext cx="2668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b Bu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14640" y="6440400"/>
              <a:ext cx="6797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ol Genomics Network / SG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960" y="5079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59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1464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5960" y="9460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4640" y="5079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812160" y="50796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4640" y="9460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59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1464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5960" y="14461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812160" y="946080"/>
              <a:ext cx="0" cy="500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14640" y="14461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59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1464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5960" y="1800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812160" y="1446120"/>
              <a:ext cx="0" cy="3542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14640" y="1800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59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464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5960" y="2165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812160" y="180036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14640" y="2165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59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464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5960" y="25304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812160" y="21654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14640" y="25304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59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464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5960" y="2895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12160" y="253044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4640" y="2895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59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45960" y="32608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2160" y="289548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4640" y="32608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59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1464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5960" y="3625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812160" y="326088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14640" y="3625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59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1464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5960" y="39798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812160" y="3625920"/>
              <a:ext cx="0" cy="35388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4640" y="39798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459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1464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5960" y="43448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812160" y="3979800"/>
              <a:ext cx="0" cy="3650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14640" y="43448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59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1464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960" y="471024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812160" y="4344840"/>
              <a:ext cx="0" cy="3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4640" y="471024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59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464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960" y="514836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812160" y="4710240"/>
              <a:ext cx="0" cy="4381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14640" y="514836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1464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5960" y="566892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12160" y="5148360"/>
              <a:ext cx="0" cy="5205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14640" y="566892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59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1464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5960" y="60436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9812160" y="5668920"/>
              <a:ext cx="0" cy="37476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14640" y="60436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59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01464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5960" y="644040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812160" y="6043680"/>
              <a:ext cx="0" cy="39672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14640" y="644040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59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1464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5960" y="6837480"/>
              <a:ext cx="2668680" cy="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812160" y="6440400"/>
              <a:ext cx="0" cy="3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14640" y="6837480"/>
              <a:ext cx="679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Schem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06440" y="1117440"/>
            <a:ext cx="77104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ock (pre-existing module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187280" y="1812960"/>
            <a:ext cx="7785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40840" y="306360"/>
            <a:ext cx="35276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07960" y="1320840"/>
            <a:ext cx="91440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7997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5800" y="1828440"/>
            <a:ext cx="4329000" cy="9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40840" y="306000"/>
            <a:ext cx="35276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notype &amp;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962520" y="406440"/>
            <a:ext cx="590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